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Über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tzündungsmedia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mittel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4320" y="54936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kontroll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9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eosinophi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yndr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osinophilenleu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320" y="549360"/>
            <a:ext cx="47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kontrollierte Über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zündungsmedia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oduzie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3"/>
            <a:endCxn id="11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5" idx="3"/>
            <a:endCxn id="11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118160" y="549360"/>
            <a:ext cx="63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ntzündungsmediator-vermittelte 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zündungsmedia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ermittel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osin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zündungsmediato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duzie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3"/>
            <a:endCxn id="12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9" idx="3"/>
            <a:endCxn id="12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tzell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7440" y="549360"/>
            <a:ext cx="65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osinophil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tzündungsmediator-vermittelte Eosinophil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Entzündungsmediator-produzierende 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3"/>
            <a:endCxn id="128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tzellrei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ga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6" idx="3"/>
            <a:endCxn id="131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832680" y="549360"/>
            <a:ext cx="70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Entzündungsmediator-vermittelte 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lerg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tzellrei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ga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2680" y="549360"/>
            <a:ext cx="70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Entzündungsmediator-vermittelte Eosin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tzündung &gt; Entzündung mastzellreicher Orga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3"/>
            <a:endCxn id="13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ar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ter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7T18:42:26Z</dcterms:modified>
  <cp:revision>333</cp:revision>
  <dc:subject/>
  <dc:title>Vorstellung einer Neuheit</dc:title>
</cp:coreProperties>
</file>